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263-D384-4B78-AE6F-E7FA2B75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183-D020-430F-8D4C-50F4B106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579-E9FC-4362-A001-41736AFC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153-94A5-4E19-9092-B2BB2C05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0FFD-E7FF-4EF6-9DB6-FC50CB20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D91E-ACE6-40C6-8B83-699DD460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A493-6613-4C2D-A859-FA6D72A1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0739-8F7C-4FDB-9C69-6B6BB373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89F6-320A-42D2-8016-FB75E34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4019-3B8E-41DC-873B-05804CA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9981-8D68-4B5B-AD69-6CE3A96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4BF-A7BC-4A8A-AA43-53CD380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9D6B-E4B7-4DF3-882B-3A04307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A118-E938-44A9-A5C9-CB95A305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4448-4324-4851-9761-94656D10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4F4-CA56-4DD5-A11E-9D993A50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82BD-AFB5-4B96-AB48-19C0ED6A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EAD-CEC8-4654-A064-3507D47D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152-8CB8-43E9-99D6-87627DB5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80F-8A59-4199-8F17-9D5C257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D2F-2220-4F0C-9845-FAC32D7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520-3CC0-40EC-B3B5-19979DD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E41-8B97-4155-B4F2-4174C63A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24D-FB26-48B7-94F8-53206391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C118-C46F-45F3-9790-0A7BA950FD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E623-3820-4944-8425-F7710CC9F2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7A6A-D7A5-4F3D-A0AB-FD08C41DAA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362320"/>
            <a:ext cx="8229600" cy="22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линичка фармација 1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давање бр.4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СНОВНИ ПРИНЦИПИ ФАРМАЦИЈЕ ЗАСНОВАНЕ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 НА ДОКАЗИМА (ФЗД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1371600" y="142920"/>
            <a:ext cx="605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0BEF-F4F5-4159-9E05-B7E6A82E27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хтева вештине од лекара и  фармацеут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траживање литературе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ну одређених правила за евалуацију доказа из литератур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FD7-29F8-4FEB-8D1C-CD97F2104F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удије које процењују ефикасност и безбедност неког терапијског поступка или лека на пацијентима се називају клиничким студијама у ужем смислу реч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њима се заснива савремена терапијска пракса, тако да је од огромног значаја правилно проценит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алиднос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линичку значајнос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квих студија, и одбацити оне које нас заводе на погрешан пу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38FC-B3A9-49AC-AEA1-718F822249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алидна клиничка студија мора да испуни следеће услове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ора бит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ндомизирана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тј. пацијенти су по принципу случајног избора сврстани у експерименталну и контролну групу) 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воструко слеп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ј. ни испитивачи, ни пацијенти нису знали ко прима плацебо, а ко активну контролу)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 контролна група и група која прима нови третман морају бит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о свему сличне на почетку студије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и морају се третирати на исти начи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ви пацијент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који су ушли у студију морају бити узети у обзир приликом извођења закључака, и анализирани у групама у којима су били на почетку (дозвољиво је да највише 20% болесника који су ушли у студију, исту не заврши до краја, већ раније «испадне» из даљег лечења и праћења)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7F4-6138-4978-A637-BBDCCAB36E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начајност клиничк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ра се  узети у обзир апсолутно смањење ризика које носи нови лек, и утврдити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број болесника које треба лечити новим леко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да би се избегао нежељени исход код једног од њи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sr-Latn-CS" sz="3000" spc="-1" strike="noStrike">
                <a:solidFill>
                  <a:srgbClr val="ff0000"/>
                </a:solidFill>
                <a:latin typeface="Verdana"/>
              </a:rPr>
              <a:t>Number Needed to Treat -NNT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FF51-F2D3-48DD-A0C8-8C95DB3559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Интерпретација риз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1 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NNT=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redukcija apsolutnog rizik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2514600" y="251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52280" y="4495680"/>
            <a:ext cx="87631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Relativni rizik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kontrolnojgru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90920" y="49528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85800" y="5638680"/>
            <a:ext cx="800100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relativnog rizika = 1 – relativni riz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52280" y="3352680"/>
            <a:ext cx="8763120" cy="974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apsolutnog rizika = rizik u kontrolnoj grupi – rizik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CEAF-856C-4847-8448-B00F95A097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Интерпретација риз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ример: Студија је дизајнирана да упореди терапију симвастатином (н=2221) у односу на плацебо (н=2223) и инциденцу смрти узроковане кардиоваскуларним болестима. Инциденца: (симвастатин) н=182; (плацебо) н=25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лативни ризик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182/256=0.71(71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Р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дукција релативног ризи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1-РР=1-0.71=0.29 (29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А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дукција апсолутног ризи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 (256/2223)- (182/2221) = 0.033 (3.3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ННТ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= 1/АРР=1/0.033 = 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71EA-A6A2-4424-A0FC-B01EB1025F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тра се да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ајан ефекат постоји када треба лечити мање од 15 болесни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а би се избегао нежељени исход код једног од њих, али то је само слободна процена, која доста зависи од тежине нежељеног исход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ко је нежељени исход смрт, онда можда вреди лечити и 20 болесника да би се један од њих спасао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AF01-49C3-4D93-A73E-736A2B8B32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ритеријуми за процену валидности и клиничке значајности студије прогностичког факт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Да би студија прогностичког фактора била валидна, она мора да прати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репрезентативан 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узорак пацијената, који је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довољно велики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довољно дуго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 да се види какав ће бити исход болест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FF4-6CE9-49B1-A9E5-A7BD91DFDF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алидност и клини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и зна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ј ст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ија које се баве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вр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вањем не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ељени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ејстав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и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и зн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ј с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р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ђ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је зависно од врсте ст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иј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етодоло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 поглед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о је студија била типа «случај-контрола», онда се као резултат добија однос могућности (енглески “оддс ратио“), који је значајан само ако је једнак или већи од 4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ко ј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 била типа клин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 или к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ртн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нда треба видети колики је релативни ризик од настанка н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љеног дејств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ко је он в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од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3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нда рез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тат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 има практ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г смис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3CE5-FE40-49D1-AAD9-4A8A06DA0D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рачун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са мог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сти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релативног риз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762120" y="2209680"/>
          <a:ext cx="7848360" cy="31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848360" cy="312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0A8C-315B-42DC-8BC5-041167D931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је пажљива, промишљена употреба најбољих доказа из медицинске литературе у доношењу одлуке о лечењу конкретног болесни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дивидуално клиничко искуство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се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мо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нтегрисати са резултатима (доказима) клиничких студија, које су методолошки биле добро постављене, и чији резултати имају клинички значај, тј. њихова примена у пракси има смис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1EE9-75C8-473F-A9BC-C64B3C1923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ред односа мог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ости и релативног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рисно је одредити 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псол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но пове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ње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 пример, ако је апсолутни ризик од појаве урођене аномалије мозга код деце чије мајке у трудноћи нису користиле лекове 1%, а код деце чије мајке су узимале антиепилептик валпроат 2%, онда је апсолутно повећање ризика од аномалија мозга са применом валпроата једнако 2% - 1% = 1%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о заправо зн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д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100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јенткиња треб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н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д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има валпроа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а би се код детета само једне од њ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јавиле аномалије мозга на р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(100/1 = 100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147-F5D7-4366-A4B2-2782CE498D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Овакву величину, која представља </a:t>
            </a:r>
            <a:r>
              <a:rPr b="1" i="1" lang="sr-CS" sz="2600" spc="-1" strike="noStrike">
                <a:solidFill>
                  <a:srgbClr val="000000"/>
                </a:solidFill>
                <a:latin typeface="Verdana"/>
              </a:rPr>
              <a:t>реципрочну вредност апсолутног повећања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називамо «број болесника које треба лечити да би се код једног јавило нежељено дејство», или енглески 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нумбер неедед то харм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ННХ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)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ко из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мо ННХ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ље 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мо раз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ети каквом се заправо ризик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л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јент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им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одр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ни лек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DB9-16F4-4DB4-929E-95D1E3D3A8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етар Петровић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78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година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Имао је ИМ пре два месеца , добро се осећа, лабораторијски налази показују да има холестерола у границама норма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Међутим, обратио се за савет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Verdana"/>
              </a:rPr>
              <a:t>да ли треба да користи неки лек статин, који је прописан његовом пријатељу који је такође имао ИМ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sr-C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35A6-3890-4DA5-9789-FA97236EB8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 </a:t>
            </a:r>
            <a:r>
              <a:rPr b="0" lang="sr-Latn-CS" sz="3400" spc="-1" strike="noStrike">
                <a:solidFill>
                  <a:srgbClr val="ff0000"/>
                </a:solidFill>
                <a:latin typeface="Arial Rounded MT Bold"/>
              </a:rPr>
              <a:t>PIC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9945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tient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од пацијенат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&gt;70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са ИМ ,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али холестерол је у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ормалним вредностима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tervention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реба да се укључи и                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ерапија статином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C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mparison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ао додатна терапија  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O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tcome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р смањује морталитет или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морбидите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74DB-87D5-45A3-8CF4-068E7F1362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Verdana"/>
              </a:rPr>
              <a:t>Heart Protection Study  </a:t>
            </a:r>
            <a:r>
              <a:rPr b="0" i="1" lang="en-GB" sz="3300" spc="-1" strike="noStrike">
                <a:solidFill>
                  <a:srgbClr val="000000"/>
                </a:solidFill>
                <a:latin typeface="Verdana"/>
              </a:rPr>
              <a:t>(Lancet 2002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tatin therapy offers a 33% reduction in further CHD events in high risk patients </a:t>
            </a:r>
            <a:r>
              <a:rPr b="1" i="1" lang="en-GB" sz="2900" spc="-1" strike="noStrike">
                <a:solidFill>
                  <a:srgbClr val="000000"/>
                </a:solidFill>
                <a:latin typeface="Verdana"/>
              </a:rPr>
              <a:t>EVEN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hen cholesterol normal or low</a:t>
            </a: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Нашем пацијену- Петру Петровићу </a:t>
            </a:r>
            <a:r>
              <a:rPr b="1" lang="sr-CS" sz="2300" spc="-1" strike="noStrike">
                <a:solidFill>
                  <a:srgbClr val="000000"/>
                </a:solidFill>
                <a:latin typeface="Verdana"/>
              </a:rPr>
              <a:t>треба</a:t>
            </a: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 препоручити укључивање статина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396-9C92-4BD9-A7D8-A09F79145A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ФЗД почиње и завршава се са пацијентом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страживачки алгорит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Формулисати питање у односу на потребе пацијен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ражити одговор са најбољим доказим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ритички вршити процену доказа који смо пронаш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менити резултате у пракс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оцена резулта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E144-0812-4CF2-94C6-918BF26EC3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Процена резулта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а ефикасно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одатака о пацијен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рописане терапије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ферентне стоп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пен морталитет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морбидите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1B53-D39D-423A-BE60-EC9AF92AB9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Кораци у спровођењу 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стављање пробл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етраживање литерату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Критичка обрада литерату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Формулисање одговор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вера применљивости одговор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имена резулта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цена ефеката ФЗД у пракс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3A0-FF6F-4467-AA97-97BFCD5AB4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 је заснована н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4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Verdana"/>
              </a:rPr>
              <a:t>научном методу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кључни извор знања у доношењу клинички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одлу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Diagram 7"/>
          <p:cNvGrpSpPr/>
          <p:nvPr/>
        </p:nvGrpSpPr>
        <p:grpSpPr>
          <a:xfrm>
            <a:off x="3547800" y="1809720"/>
            <a:ext cx="4876920" cy="3926520"/>
            <a:chOff x="3547800" y="1809720"/>
            <a:chExt cx="4876920" cy="3926520"/>
          </a:xfrm>
        </p:grpSpPr>
        <p:sp>
          <p:nvSpPr>
            <p:cNvPr id="99" name="_s1028"/>
            <p:cNvSpPr/>
            <p:nvPr/>
          </p:nvSpPr>
          <p:spPr>
            <a:xfrm flipH="1" flipV="1">
              <a:off x="4783320" y="3556800"/>
              <a:ext cx="5997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_s1029"/>
            <p:cNvSpPr/>
            <p:nvPr/>
          </p:nvSpPr>
          <p:spPr>
            <a:xfrm>
              <a:off x="3547800" y="2902320"/>
              <a:ext cx="1266480" cy="1059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Закључак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репорук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_s1030"/>
            <p:cNvSpPr/>
            <p:nvPr/>
          </p:nvSpPr>
          <p:spPr>
            <a:xfrm flipH="1">
              <a:off x="5240160" y="4314240"/>
              <a:ext cx="3736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1"/>
            <p:cNvSpPr/>
            <p:nvPr/>
          </p:nvSpPr>
          <p:spPr>
            <a:xfrm>
              <a:off x="4237200" y="4677120"/>
              <a:ext cx="1266480" cy="10591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валитет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доказ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6356880" y="4314240"/>
              <a:ext cx="37188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467040" y="4677120"/>
              <a:ext cx="1266480" cy="1059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Евалуација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литератур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4"/>
            <p:cNvSpPr/>
            <p:nvPr/>
          </p:nvSpPr>
          <p:spPr>
            <a:xfrm flipV="1">
              <a:off x="6587640" y="3558600"/>
              <a:ext cx="6019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5"/>
            <p:cNvSpPr/>
            <p:nvPr/>
          </p:nvSpPr>
          <p:spPr>
            <a:xfrm>
              <a:off x="7158240" y="2902320"/>
              <a:ext cx="1266480" cy="10591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одговарајућ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информациј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6"/>
            <p:cNvSpPr/>
            <p:nvPr/>
          </p:nvSpPr>
          <p:spPr>
            <a:xfrm flipV="1">
              <a:off x="5985360" y="2827080"/>
              <a:ext cx="0" cy="52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7"/>
            <p:cNvSpPr/>
            <p:nvPr/>
          </p:nvSpPr>
          <p:spPr>
            <a:xfrm>
              <a:off x="5318640" y="1809720"/>
              <a:ext cx="1266480" cy="10591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линичко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итањ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8"/>
            <p:cNvSpPr/>
            <p:nvPr/>
          </p:nvSpPr>
          <p:spPr>
            <a:xfrm>
              <a:off x="5318640" y="3393720"/>
              <a:ext cx="1266480" cy="10591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900" spc="-1" strike="noStrike">
                  <a:solidFill>
                    <a:srgbClr val="000000"/>
                  </a:solidFill>
                  <a:latin typeface="Verdana"/>
                </a:rPr>
                <a:t>ФЗД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AutoShape 31"/>
            <p:cNvSpPr/>
            <p:nvPr/>
          </p:nvSpPr>
          <p:spPr>
            <a:xfrm>
              <a:off x="6857280" y="205632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639371"/>
                  <a:lnTo>
                    <a:pt x="2064" y="4450"/>
                  </a:lnTo>
                  <a:arcTo wR="10800" hR="10800" stAng="-8639371" swAng="863937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AutoShape 30"/>
          <p:cNvSpPr/>
          <p:nvPr/>
        </p:nvSpPr>
        <p:spPr>
          <a:xfrm>
            <a:off x="6858000" y="2057400"/>
            <a:ext cx="685800" cy="762120"/>
          </a:xfrm>
          <a:custGeom>
            <a:avLst/>
            <a:gdLst>
              <a:gd name="textAreaLeft" fmla="*/ 100440 w 685800"/>
              <a:gd name="textAreaRight" fmla="*/ 585360 w 6858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071" y="5399"/>
                  <a:pt x="7447" y="6227"/>
                  <a:pt x="6431" y="7625"/>
                </a:cubicBezTo>
                <a:lnTo>
                  <a:pt x="2063" y="4450"/>
                </a:lnTo>
                <a:cubicBezTo>
                  <a:pt x="4095" y="1654"/>
                  <a:pt x="7343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E43-1670-448F-9E39-C0B1AEBC6A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 је заснована н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Verdana"/>
              </a:rPr>
              <a:t>научном метод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дентификовање проблем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икупљање инфо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валуација инфо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епору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хо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ред тога на доношење одлука утич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куств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уторите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тражив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Логичко размишљ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F41C-B7F1-4A5F-B58B-997DAEEE77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је интеграција клиничког искуства, система вредности пацијента и најбољих доказа из литератур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кази сами по себи не доводе до закључака, већ само помажу у одређивању најбољег третмана пацијент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DED-4F47-4EDF-9ACE-3897DF0594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Постављање пробл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рад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 болес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ма се спонтано јављ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и које морамо р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ат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на основ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и </a:t>
            </a:r>
            <a:r>
              <a:rPr b="1" i="1" lang="ru-RU" sz="2600" spc="-1" strike="noStrike">
                <a:solidFill>
                  <a:srgbClr val="ff0000"/>
                </a:solidFill>
                <a:latin typeface="Verdana"/>
              </a:rPr>
              <a:t>постављамо питањ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која потом т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мо одгово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и се јављ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стављ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гнозе боле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ив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њеног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ро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гност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тода које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 најпре довести до дијагноз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на л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ња 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р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в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нозе лечења болесник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AC89-4B97-4862-821A-722A4C3ACF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ње проблема много зависи од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авилног постављања пит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бро постављено питање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ек има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4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лемента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но д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ф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нисано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оја се планир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лтернатив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 којом се планирана интерве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ђ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с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који се о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к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во примера добро постављеног питањ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а ли код болесника с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х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он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м ср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аном инс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ф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е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ом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3.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тепен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мена АЦ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битор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планирана интервен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ц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мањ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 смртност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с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х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од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 ил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ње од блокатора 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птора за ангиотензи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алтернативна интервен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ц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63DD-0805-45A4-AC0C-B3EC1B98DC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де и како тра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о одговоре на питања која постављамо током третман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 свега треба прет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т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азе подата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на Интернет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је садр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 систематске прегледн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анке о појединим кли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им проблеми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најпоузданија од таквих база је 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Кохранова база подата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јер су сви ситематски прегледни чланци у њој рађени према методолошким принципима МЗ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9-12T21:39:2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